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2.pct" ContentType="image/x-pict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9CEF-5DB4-4776-B549-402F91A5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20AC-555A-43AA-A40D-8F7D1FAC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1D95-6575-4695-9CF0-AD2AD504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0E31-6F39-4DE5-A294-3B029501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FB0E-3FA5-43B5-A183-C21C8B41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0ABA-92EA-419D-B9FA-D80B9D90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C79F-306A-4E47-A9E6-9140473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BADE-C3D0-4B9B-AA77-59A49B5C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E1FC-C127-45FA-9CEF-F806442E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C047-3A42-47ED-9489-20E1E64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3573-06FB-4D64-8D78-52FBFFA0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F22F-F6A7-4356-AFBA-411D01C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5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563400"/>
            <a:ext cx="250920" cy="6294600"/>
          </a:xfrm>
          <a:prstGeom prst="rect">
            <a:avLst/>
          </a:prstGeom>
          <a:solidFill>
            <a:srgbClr val="3b3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276f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072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6844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40840" y="558720"/>
            <a:ext cx="9720" cy="629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8150040" y="6669000"/>
            <a:ext cx="1006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6766-606D-4262-977C-9C46260D2707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35676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686720" y="0"/>
            <a:ext cx="10382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1" name=""/>
          <p:cNvSpPr/>
          <p:nvPr/>
        </p:nvSpPr>
        <p:spPr>
          <a:xfrm>
            <a:off x="963720" y="274464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Lucida Sans Unicode"/>
              </a:rPr>
              <a:t>Click to edit the outline text format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lvl="1" marL="476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Second Outline Level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857160" algn="ctr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Third Outline Level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238400" algn="ctr"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3880" algn="ctr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79720" y="1712880"/>
            <a:ext cx="5479920" cy="2847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8920" y="366480"/>
            <a:ext cx="7360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Lucida Sans Unicode"/>
              </a:rPr>
              <a:t>Coordinator’s report</a:t>
            </a:r>
            <a:endParaRPr b="1" lang="en-US" sz="48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Huib van Langevelde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EXPReS board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Utrecht, 30 January, 2008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Satisfying EC contrac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I think we are doing OK in year 2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But we noticed last year that the standard is quite high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hink the PR activities with global connectivity helped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5408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we will do some mor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52960" y="2770200"/>
            <a:ext cx="3710160" cy="2282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368280" y="2130480"/>
            <a:ext cx="45068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ust be seen to take their considerations se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Regular monitor tool to measure operational bandwidth every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Closer liaison with network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Explore QoS tools to get bett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Use more collaborative tools established else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Keep closer control on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79E3-F78D-410C-99FD-1F8F3F2B34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re we getting what we wan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0040" y="3943440"/>
            <a:ext cx="3554280" cy="2666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1440" y="764640"/>
            <a:ext cx="8782200" cy="56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Yes! An opportunity to position VLBI for the next decad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 way to offer new scientific capa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upgrade path for VLBI in the fu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Larger bandwidth, more bit per sample 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But not quite clear what the correlator for that should look lik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opportunity to position e-VLBI as a SKA pathfinder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 good collaboration with suppliers of Network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Dynamic lightpaths prove importa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Pushing the requirements for Network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computing at some poi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uilding up expertis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momentum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a reput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B4A8-2E8D-443B-ACE9-4F2D38D3E8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What’s nex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ere are 20 months left in EXPRe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f we extend the project for 6 month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an obvious EC call to continue our project in FP7 (yet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ybe a new call in late 2008 for 2009 star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But EC themes seem different from our ambitions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urrently a unique collaboration of Observatories &amp; NREN’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We should aim to continue this, who would disagree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Maybe involve more supercomputing/GRID in the future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keep our focus on (Global) e-VLBI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like to get some NRAO antennas involved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Or should it be about e-LOFAR and SKA as well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Number of things to be addressed in future e-VLBI: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Light paths on demand, around the globe...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Buffering data at telescopes and correlator for robustnes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ke use of 10Gbps connectivity operationally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Needs data acquisition system and correlator concept!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8882-920B-48E9-9D75-5E4620E0CA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79720" y="1662120"/>
            <a:ext cx="5479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Objective of this talk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Review progress meeting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Do discuss the progress in EXPReS from board perspectiv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has EXPReS managed to demonstrate so far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are the concerns with respect to progress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s the EC getting what they contracted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re we going where we want to be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nd think beyond the EXPReS projec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ture of the project, future of e-VLBI, future of our collabor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lation to other initiatives, telescop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 few words about JIVE....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Going through many personnel chang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 rot="840000">
            <a:off x="7034040" y="2493720"/>
            <a:ext cx="1814400" cy="76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y perso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ias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5010-1084-4BD1-B131-3BAB5C4AFD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JIVE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599760"/>
            <a:ext cx="8591400" cy="60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EXPReS secretary Diana van Dijk lef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nternal transfer to AstroTech Hold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anaged to arrange transition for the continuity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Yvonne Kool joined secretari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Now employed as senior secreta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ll time job at JIVE, EXPReS among her responsi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Zsolt Paragi will be Senior Support Scientis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Permanent position with JIV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fulfil e-VLBI scientist role for remainder of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Checked with EC that this is still “eligible”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Other EXPReS staff changes last summer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JIVE staffing situation has been tigh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still have opening in management struc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oU renewal negotiated, JIVE for 5 more year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nding proposal for RadioNet of vital importance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1FDD-8216-47FE-85EB-B0386BF25F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276f"/>
                </a:solidFill>
                <a:latin typeface="Lucida Sans Unicode"/>
              </a:rPr>
              <a:t>Yesterday’s progress meeting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od progress, and a lot of discussion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Very useful source of information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Good to have it before the annual repor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Need to see more progress reports in the public domain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 are a multi-disciplinary lot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For some talks the Networks are just clouds of vapourware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For others the astronomers are in the clouds :-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But I guess we can bear with that!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re was a lot of “interference” from LOFAR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Many talks had some mention of LOFAR requirement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But addressing common problems with LOFAR is part of Description of Work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So, EXPReS can facilitate that discussion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I think this format is very good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Board meeting seems long too wai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The Shanghai e-VLBI meeting could be interesting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9" name=""/>
          <p:cNvSpPr/>
          <p:nvPr/>
        </p:nvSpPr>
        <p:spPr>
          <a:xfrm>
            <a:off x="6246720" y="5767560"/>
            <a:ext cx="2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F914C-A9E0-4A1F-9DFA-E35823F94A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24560" y="4140360"/>
            <a:ext cx="4316400" cy="2555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has demonstrated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8718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at e-VLBI can be done reliably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nd at competitive sensitivity now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succesfully the old correlator and adopted the operational procedure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6 telescopes operational in Europe  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Operations favour dedicated lightpaths for robust performanc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tinkering with the protocols (UDP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And then we can get close to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an even do intercontinental VLBI in real-time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Overcame round-trip time problem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even complex politic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79880" y="1782720"/>
            <a:ext cx="4164120" cy="1827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643880" y="0"/>
            <a:ext cx="1185840" cy="28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7469-865D-4918-95C4-12A78BCBE2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demonstrated more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51368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Various ways to proceed beyond current VLBI system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10Gbps connectivity coming up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tarted iBoB developme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Demonstrated working on distributed software correlator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nomy can be done with this network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new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spectral line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49960" y="3417840"/>
            <a:ext cx="3119400" cy="309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27560" y="655560"/>
            <a:ext cx="391644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954080" y="4619520"/>
            <a:ext cx="2143080" cy="198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EC7E-1845-404A-AE9A-758C671A25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stronomy: spectral line science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33840" y="4030560"/>
            <a:ext cx="305928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11880" y="592200"/>
            <a:ext cx="2444760" cy="36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2360" y="2208240"/>
            <a:ext cx="4857840" cy="4646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765000"/>
            <a:ext cx="582264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metry of circumstellar ma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e-VLBI to get better time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So our very slow response is justified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chnically OK, demonstration 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cience goals not so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564B-D4FE-4B8C-8C90-97B19145D1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Keep the money flowing, yes we know!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Continuity of staffing is always a wor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nternal communication can always be improved!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Not to be remedied by e-collaboration tools as the review suggested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Technical issue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ust make the transition to Mk5B for eVLBI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Parts of the e-MERLIN correlator on the critical path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nnectivity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ally, really like to have Effelsberg in the Network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Yebes when it is availabl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Ventspils when it is ready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sts with South-America and Africa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8C57-27D2-4C34-9CC0-B1A9399002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41840" y="3129120"/>
            <a:ext cx="4817880" cy="3406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 (cont)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stronomy not yet the greatest succes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till fail to attract large numbers of user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Poor sensitivity compared to disk recording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Effelsberg missing, not at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providing longest baselin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Cannot yet offer China, Arecibo, South Africa operationally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Confused by changing polici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Policy now not very restrictive anymore, EVN board quite supportive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333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"/>
          <p:cNvSpPr/>
          <p:nvPr/>
        </p:nvSpPr>
        <p:spPr>
          <a:xfrm>
            <a:off x="442800" y="2968560"/>
            <a:ext cx="2776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ome frustration with inertia/conservatism of EVN off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think this is as fast forward as we can g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call for proposals advert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Deadline in 2 days, hard to predict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EC seems to await a “big discov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24B0-14C7-4ABF-9DE8-FF5D4A3E44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cp:keywords/>
  <dc:language>en-US</dc:language>
  <cp:lastModifiedBy>Huib Jan van Langevelde</cp:lastModifiedBy>
  <cp:lastPrinted>2008-01-29T09:32:49Z</cp:lastPrinted>
  <dcterms:modified xsi:type="dcterms:W3CDTF">2008-01-30T08:15:15Z</dcterms:modified>
  <cp:revision>223</cp:revision>
  <dc:subject/>
  <dc:title>PowerPoint Presentation</dc:title>
</cp:coreProperties>
</file>